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8F9-B75A-4882-91EA-A96109C6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C4F-C057-4B2F-AA5B-6A7198A6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A8A-965E-44B0-BF37-36E7B6CD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AE6-F908-48F3-B095-15BA533D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197F-FCD6-468F-A6E0-CFFDC8AF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DEAA-2A3C-46E7-A227-FDF294B9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F3B9-BFEA-4645-9034-932D40CB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FC43-4B89-492A-9EC8-F2D14479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DCBB-B9E5-4CFF-9B05-C7029DFA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D798-FDB9-4D5B-B4F7-AD31F3C9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CECB-F525-4CBA-B524-92B245ED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4C3-EFE7-4163-AE55-88498576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16A4-EEB9-4FA9-B30C-456203A6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35EC-8D11-42D4-B42C-16703A41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946D-FC72-4F11-8021-5AB7B0CA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52B8-EEE6-4B4C-B3EF-8A3CBCAE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CD54-04B8-4798-B8D4-0D7B032B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5C5-88BA-469E-AC42-EE48699A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428-AD8A-4BF3-9661-0AD495F6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81B-F6A5-48E5-8501-A29CF926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F39-275D-4305-B8B2-47A1A2DA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9DD-CDBC-4F27-88C2-343E74BE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DB5-D408-4185-9AD5-5EDDB757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B49-D148-4CEF-A86F-35CC670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E0EF-8F6C-4A3B-B374-0B33C21F89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5C76-9EA9-4F60-9035-12E7A50323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cc"/>
                </a:solidFill>
                <a:latin typeface="Tahoma"/>
              </a:rPr>
              <a:t>Adunăm şi scădem până la 30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Cum se numesc numerele care se adună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Numerele care se adună se numesc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Rezultatul adunării se numeşte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escăzutul este numărul din care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Numărul care se scade se numeşte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iferenţa  este rezultatul………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Calculează adunările şi fă proba în două moduri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5 + 8 =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7 + 6 =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9 + 21 =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. cu adunar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. cu scăd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Îmi aleg o meserie </a:t>
            </a:r>
            <a:r>
              <a:rPr b="0" lang="ro-RO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59160" cy="354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4105080" cy="252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537372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Croi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229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Cofe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59160" cy="3112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0720" cy="3171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5157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Vânză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5157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Tâmp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Cum mă ajută matematica să fac această meseri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769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1:59:06Z</dcterms:created>
  <dc:creator> </dc:creator>
  <dc:description/>
  <dc:language>en-US</dc:language>
  <cp:lastModifiedBy> </cp:lastModifiedBy>
  <dcterms:modified xsi:type="dcterms:W3CDTF">2010-09-12T12:22:38Z</dcterms:modified>
  <cp:revision>2</cp:revision>
  <dc:subject/>
  <dc:title>Adunăm şi scădem până la 30</dc:title>
</cp:coreProperties>
</file>